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B8C7-C794-476F-BA9C-62F5519A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F3FF-A5AD-4A98-96EF-E7A3800F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55FC-D43F-46F6-9B0C-F2140E9A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B69-F6B3-4A9D-91F9-39E51B06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684E-2E2F-47D8-9BAD-675CE2EF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41C3-F56C-4DB6-9CCF-D1EC0137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CEBA-7059-4E98-892A-0C25D6D3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8BEB-E87A-4BF2-A951-5657997A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05D9-277B-4E74-95A4-88B8DD6F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BA86-AA1F-4117-997B-663AAAF9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3437-17F5-4C0A-A851-CAEBD01E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301D-0868-4816-B9B2-6EE4F9D0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121D-FF6C-45DA-A872-7545FAFF8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Arial"/>
              </a:rPr>
              <a:t>Organigrama Mare Nos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1640" y="1585800"/>
            <a:ext cx="8208720" cy="4462920"/>
            <a:chOff x="431640" y="1585800"/>
            <a:chExt cx="8208720" cy="4462920"/>
          </a:xfrm>
        </p:grpSpPr>
        <p:cxnSp>
          <p:nvCxnSpPr>
            <p:cNvPr id="43" name="_s2070"/>
            <p:cNvCxnSpPr>
              <a:stCxn id="44" idx="0"/>
              <a:endCxn id="45" idx="2"/>
            </p:cNvCxnSpPr>
            <p:nvPr/>
          </p:nvCxnSpPr>
          <p:spPr>
            <a:xfrm flipV="1" rot="16200000">
              <a:off x="6384960" y="3589920"/>
              <a:ext cx="558360" cy="2128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" name="_s2068"/>
            <p:cNvCxnSpPr>
              <a:stCxn id="47" idx="0"/>
              <a:endCxn id="45" idx="2"/>
            </p:cNvCxnSpPr>
            <p:nvPr/>
          </p:nvCxnSpPr>
          <p:spPr>
            <a:xfrm rot="16200000">
              <a:off x="5320800" y="4654080"/>
              <a:ext cx="558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2066"/>
            <p:cNvCxnSpPr>
              <a:stCxn id="49" idx="0"/>
              <a:endCxn id="45" idx="2"/>
            </p:cNvCxnSpPr>
            <p:nvPr/>
          </p:nvCxnSpPr>
          <p:spPr>
            <a:xfrm flipH="1" flipV="1" rot="5400000">
              <a:off x="4256640" y="3589920"/>
              <a:ext cx="558360" cy="2128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2064"/>
            <p:cNvCxnSpPr>
              <a:stCxn id="51" idx="0"/>
              <a:endCxn id="52" idx="2"/>
            </p:cNvCxnSpPr>
            <p:nvPr/>
          </p:nvCxnSpPr>
          <p:spPr>
            <a:xfrm flipV="1" rot="16200000">
              <a:off x="5852880" y="1384200"/>
              <a:ext cx="558360" cy="3192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2062"/>
            <p:cNvCxnSpPr>
              <a:stCxn id="45" idx="0"/>
              <a:endCxn id="52" idx="2"/>
            </p:cNvCxnSpPr>
            <p:nvPr/>
          </p:nvCxnSpPr>
          <p:spPr>
            <a:xfrm flipV="1" rot="16200000">
              <a:off x="4788720" y="2448360"/>
              <a:ext cx="558360" cy="1064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2061"/>
            <p:cNvCxnSpPr>
              <a:stCxn id="55" idx="0"/>
              <a:endCxn id="52" idx="2"/>
            </p:cNvCxnSpPr>
            <p:nvPr/>
          </p:nvCxnSpPr>
          <p:spPr>
            <a:xfrm flipH="1" flipV="1" rot="5400000">
              <a:off x="3724560" y="2448360"/>
              <a:ext cx="558360" cy="1064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2060"/>
            <p:cNvCxnSpPr>
              <a:stCxn id="57" idx="0"/>
              <a:endCxn id="52" idx="2"/>
            </p:cNvCxnSpPr>
            <p:nvPr/>
          </p:nvCxnSpPr>
          <p:spPr>
            <a:xfrm flipH="1" flipV="1" rot="5400000">
              <a:off x="2660760" y="1384200"/>
              <a:ext cx="558360" cy="3192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2" name="_s2056"/>
            <p:cNvSpPr/>
            <p:nvPr/>
          </p:nvSpPr>
          <p:spPr>
            <a:xfrm>
              <a:off x="3624120" y="1585800"/>
              <a:ext cx="182412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333399"/>
                  </a:solidFill>
                  <a:latin typeface="Arial"/>
                </a:rPr>
                <a:t>Director General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elipe Graci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2057"/>
            <p:cNvSpPr/>
            <p:nvPr/>
          </p:nvSpPr>
          <p:spPr>
            <a:xfrm>
              <a:off x="431640" y="3259440"/>
              <a:ext cx="182412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Directo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nancie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ther Martí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058"/>
            <p:cNvSpPr/>
            <p:nvPr/>
          </p:nvSpPr>
          <p:spPr>
            <a:xfrm>
              <a:off x="2559600" y="3259440"/>
              <a:ext cx="182412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Director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Marke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eatriz Caldere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59"/>
            <p:cNvSpPr/>
            <p:nvPr/>
          </p:nvSpPr>
          <p:spPr>
            <a:xfrm>
              <a:off x="4687920" y="3259440"/>
              <a:ext cx="182412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Director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Produc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va Lópe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2063"/>
            <p:cNvSpPr/>
            <p:nvPr/>
          </p:nvSpPr>
          <p:spPr>
            <a:xfrm>
              <a:off x="6816240" y="3259440"/>
              <a:ext cx="182412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99"/>
                  </a:solidFill>
                  <a:latin typeface="Arial"/>
                </a:rPr>
                <a:t>Director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99"/>
                  </a:solidFill>
                  <a:latin typeface="Arial"/>
                </a:rPr>
                <a:t>Recursos Human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ristina Bae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065"/>
            <p:cNvSpPr/>
            <p:nvPr/>
          </p:nvSpPr>
          <p:spPr>
            <a:xfrm>
              <a:off x="2559600" y="4933080"/>
              <a:ext cx="182412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</a:rPr>
                <a:t>Camareros(2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67"/>
            <p:cNvSpPr/>
            <p:nvPr/>
          </p:nvSpPr>
          <p:spPr>
            <a:xfrm>
              <a:off x="4687920" y="4933080"/>
              <a:ext cx="182412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</a:rPr>
                <a:t>Cocineros(5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69"/>
            <p:cNvSpPr/>
            <p:nvPr/>
          </p:nvSpPr>
          <p:spPr>
            <a:xfrm>
              <a:off x="6816240" y="4933080"/>
              <a:ext cx="182412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</a:rPr>
                <a:t>Asistentas(2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09:43:09Z</dcterms:created>
  <dc:creator>Alumno</dc:creator>
  <dc:description/>
  <dc:language>en-US</dc:language>
  <cp:lastModifiedBy>Alumno</cp:lastModifiedBy>
  <dcterms:modified xsi:type="dcterms:W3CDTF">2010-12-16T09:57:53Z</dcterms:modified>
  <cp:revision>2</cp:revision>
  <dc:subject/>
  <dc:title>Organigrama Mare Nostrum</dc:title>
</cp:coreProperties>
</file>